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1680" y="380160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20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24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680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168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24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680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1320" y="142560"/>
            <a:ext cx="56214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820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1680" y="380160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820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8924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7680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168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8924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7680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1320" y="142560"/>
            <a:ext cx="56214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20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1" name=""/>
            <p:cNvSpPr/>
            <p:nvPr/>
          </p:nvSpPr>
          <p:spPr>
            <a:xfrm>
              <a:off x="0" y="5950080"/>
              <a:ext cx="9144000" cy="90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542880" y="6024600"/>
              <a:ext cx="165564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22320">
              <a:solidFill>
                <a:srgbClr val="9c8d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15354" t="4987" r="25172" b="25197"/>
          <a:stretch/>
        </p:blipFill>
        <p:spPr>
          <a:xfrm>
            <a:off x="8164440" y="0"/>
            <a:ext cx="979560" cy="647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rcRect l="3617" t="0" r="18233" b="8661"/>
          <a:stretch/>
        </p:blipFill>
        <p:spPr>
          <a:xfrm>
            <a:off x="6192720" y="0"/>
            <a:ext cx="986040" cy="6494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rcRect l="15871" t="11286" r="18085" b="11286"/>
          <a:stretch/>
        </p:blipFill>
        <p:spPr>
          <a:xfrm>
            <a:off x="7178760" y="0"/>
            <a:ext cx="985680" cy="649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192720" y="844560"/>
            <a:ext cx="2951280" cy="0"/>
          </a:xfrm>
          <a:prstGeom prst="line">
            <a:avLst/>
          </a:prstGeom>
          <a:ln w="22320">
            <a:solidFill>
              <a:srgbClr val="9c8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6192720" y="1092240"/>
            <a:ext cx="2951280" cy="0"/>
          </a:xfrm>
          <a:prstGeom prst="line">
            <a:avLst/>
          </a:prstGeom>
          <a:ln w="22320">
            <a:solidFill>
              <a:srgbClr val="9c8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219720" y="853920"/>
            <a:ext cx="292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nect. Communicate. Collabo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6"/>
          <a:stretch/>
        </p:blipFill>
        <p:spPr>
          <a:xfrm>
            <a:off x="7299360" y="5996160"/>
            <a:ext cx="1295280" cy="81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5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3040" y="141120"/>
            <a:ext cx="2335320" cy="95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92720" y="844560"/>
            <a:ext cx="2951280" cy="0"/>
          </a:xfrm>
          <a:prstGeom prst="line">
            <a:avLst/>
          </a:prstGeom>
          <a:ln w="22320">
            <a:solidFill>
              <a:srgbClr val="9c8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92720" y="1092240"/>
            <a:ext cx="2951280" cy="0"/>
          </a:xfrm>
          <a:prstGeom prst="line">
            <a:avLst/>
          </a:prstGeom>
          <a:ln w="22320">
            <a:solidFill>
              <a:srgbClr val="9c8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15354" t="4987" r="25172" b="25197"/>
          <a:stretch/>
        </p:blipFill>
        <p:spPr>
          <a:xfrm>
            <a:off x="8164440" y="0"/>
            <a:ext cx="979560" cy="64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rcRect l="3617" t="0" r="18233" b="8661"/>
          <a:stretch/>
        </p:blipFill>
        <p:spPr>
          <a:xfrm>
            <a:off x="6192720" y="0"/>
            <a:ext cx="986040" cy="649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rcRect l="15871" t="11286" r="18085" b="11286"/>
          <a:stretch/>
        </p:blipFill>
        <p:spPr>
          <a:xfrm>
            <a:off x="7178760" y="0"/>
            <a:ext cx="985680" cy="64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219720" y="853920"/>
            <a:ext cx="292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nect. Communicate. Collabo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58" name=""/>
            <p:cNvSpPr/>
            <p:nvPr/>
          </p:nvSpPr>
          <p:spPr>
            <a:xfrm>
              <a:off x="0" y="5950080"/>
              <a:ext cx="9144000" cy="90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542880" y="6024600"/>
              <a:ext cx="165564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22320">
              <a:solidFill>
                <a:srgbClr val="9c8d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7299360" y="5996160"/>
            <a:ext cx="1295280" cy="815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2 EVN-NREN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25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Chevers, Project Manager, D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 Board Meeting, Utrecht January 3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ighligh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profile demo     –China-Eur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VN-NREN meeting –many new faces AU, US, 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nning to connect ‘new’ telescopes to produ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cilitating FABRIC 4Gbps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wo successful press rel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VN-NR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e of conne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pdate May 2007 – January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provide and promote project-wide meeting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provide a forum for discussion and resolution of networking and technical issu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discuss, critically review and develop results and ideas from SA1, SA2, JRA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vide input to EXPReS outreach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atus of Global Connectiv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dicated 1Gbps circuits in place fro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Westerb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Jodrell Ba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edic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ru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xpected so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Yebes (Madri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ffelsberg?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entspils?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nsala?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hanghai achieved 512Mbps in UDP tests to JIVE: fringes at 256 Mbp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ustrali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chieved 512Mbps to JIVE as part of the APAN de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igo hoping for 128Mbps to Europe by May 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nectivity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icibo (64Mbps achieved) –future pla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zusawa VERA has achieved 300Mbps to EU –mo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B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Gbps from London to Stockhol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ping for Jodrell-Onsala s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date: APAN Dem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AN Meeting in Xi’an, Ch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mo connecting Shanghai to J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tilising the new ORIENT circ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y successful -256Mbps fringes achie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s release well recei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date: EVN-NR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N-NREN Meeting in Bon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od attendance with new faces (24 to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8 network organisations represe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NTE, DFN, SURFnet, RedIRIS, AARNET, Internet2, JANET, NORDU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pdate on  GÉANT2 and global conne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w connecting ZA (1Gbps) and CN (2.5G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tools –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domain NOC (E2EC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ReS Up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Gbps connectivity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date: EVN-NREN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und table discus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ystack needs 2-4Gbps to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bes is still implementing last mile (early 20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 telescopes will continue to connect via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ffelsberg –digging last m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 achieved 300Mbps to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ations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CP and UDP for eVLBI (P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B-eMerlin work (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DP throughput tests (RH-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ernet2 monitoring tools (R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date: Other i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s release from JIVE-D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ing Gbps circu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Gbps path tests for FAB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etion of FABRIC circuit Jodrell-Ons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on of Ye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rther work with S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6:39:11Z</dcterms:created>
  <dc:creator>john</dc:creator>
  <dc:description/>
  <dc:language>en-US</dc:language>
  <cp:lastModifiedBy>john</cp:lastModifiedBy>
  <dcterms:modified xsi:type="dcterms:W3CDTF">2008-01-30T10:34:39Z</dcterms:modified>
  <cp:revision>13</cp:revision>
  <dc:subject/>
  <dc:title>NA2 EVN-NREN </dc:title>
</cp:coreProperties>
</file>